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28AD-6FB1-46F0-9522-41DB1954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4EC8-779A-4ECC-8C04-1A83C13E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353C-ADA2-439B-BFF0-90B7DFA3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569-4266-4127-9E11-7AA88689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535-C819-4BDE-8477-D6AFAA62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B068-BA83-45C7-A7A4-9DBF5390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D1A7-4065-46F0-B252-BF71FCDD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63DA-935D-48B2-8073-A56944D8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C1B9-23FC-4ECB-B4D4-B55123ED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9CB-CB05-48B5-A5BD-6B68D07E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467B-0646-4E77-93EA-BC8DD025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72C-4ACB-4930-926A-10FD5483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23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S WG Inter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BE45-7589-4691-B30D-673CEFA73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8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3E3A-F0A8-4EBD-AA58-CB1FFB691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CWEB Media Privacy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johnston-rtcweb-media-privacy-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n Johnston &lt;alan.b.johnston@gmail.co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Zimmermann &lt;prz@mit.edu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1190520" y="6132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1914480" y="606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CWEB WG Virtual Inter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Media Privacy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WEB signaling may not be standard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WEB media will be transported using R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WEB media security provided by SR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privacy is all about ke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browsers need SRTP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me cases, web servers need SRTP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roviding media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RTCWEB browser users have any expectations of media priva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o, we must choose key management care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D516-D360-4D22-8A9F-9C2D34880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8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CWEB WG Virtual Inter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 Privacy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TP keys shared with web server over signaling 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ent over encrypted channel, provides privacy against some attackers, but key is known to web server and anything that logs web traf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LS-SR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TLS handshake in media path generates SRTP 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of handshake done via PKI or exchange of key fingerprint over an integrity protected signaling 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ity protected signaling channels not available for SIP, and RTCWEB may not even standardize sign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R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s Diffie-Hellman key agreement in media path to generate SRTP keys, no reliance on signaling 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done using key continuity with the opportunity for users to compare Short Authentication Str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2E3E-8070-4692-822E-9D737891B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8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CWEB WG Virtual Inter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G interest in further investigation of media privacy for RTC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7A0B-F70B-41CD-A62E-1EAF8523A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8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CWEB WG Virtual Inter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6:55:18Z</dcterms:created>
  <dc:creator>Alan Johnston</dc:creator>
  <dc:description/>
  <dc:language>en-US</dc:language>
  <cp:lastModifiedBy>Alan Johnston</cp:lastModifiedBy>
  <dcterms:modified xsi:type="dcterms:W3CDTF">2011-06-08T13:37:11Z</dcterms:modified>
  <cp:revision>77</cp:revision>
  <dc:subject/>
  <dc:title>Best Effort SRTP</dc:title>
</cp:coreProperties>
</file>