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BB0-9DFB-4D51-92C9-CA3AE7E0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E08-B4E9-4240-BF39-D4CB0858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240-FC6D-461F-B6A7-29383FF2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3BE-E9C9-47C2-9B83-C5138ED4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30C-89A4-4163-ACFC-5278FB10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70C-F7AF-45F1-84F6-4AD1D259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86A-0DAD-4322-AA0E-D9D59B91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0850-384C-4A7F-ADAC-FA910636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FD65-751E-4940-BFD6-4B3D4790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FEE-42DC-49CA-8040-58178519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C9E-9B11-4774-A556-4740A681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54A-CD19-450E-83A8-E049739C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B3761-E848-4459-B607-AE37BD843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CWEB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ald Alve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(obvio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 for establishing desire to commun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if possible, with TURN relay fall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P if possible, with TCP fall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vers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ther all of ICE is appropr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kaufman-rtcweb-tra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 strategies (TFRC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fr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P for media, using RTP/SAVPF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CP multiplexing, symmetric RTP/R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cbran-rtcweb-protoco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perkins-rtcweb-rtp-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vers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P multiplexing – session-per-media-stre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ing of non-media data - UDP/DCCP/DT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I Codec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US (may be uncontrovers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one low-quality “phone” audio cod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vers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odec status (do not discuss 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e events (important use cas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s for non-medi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requirement to negotiat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has SDP as “lingua franca of descrip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 has lots of legacy wi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ominant accepted managemen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SIP installed base – limited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PP has separat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use cases may be better off on propri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way solutions better on browser footpr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and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control over his own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of streams lo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interact with stream control, but mostly a local matter – may be better addressed in W3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system suppor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o cance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gai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ra zoom/pan/t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spects are inter-user and may need standardiz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 are matters of “good citizenship” (“mute when not speaking in large meetings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ow, leave it for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environ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lots of things that are obv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hav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a few known controvers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figure out if one alternative has “rough consensus” and move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rough consensus – what do we need to t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find more controversie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 consensus and running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CWEB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Time Communication in the Brow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r to Browser is Job Number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by JS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(just) for apps we have already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hood and Apple 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59000" y="561960"/>
            <a:ext cx="7785000" cy="58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C is not a green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protocol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stuff depl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ri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tandard protocols in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5960" y="422280"/>
            <a:ext cx="8070840" cy="60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27040" y="176832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403200"/>
            <a:ext cx="8607600" cy="64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, massively deployed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utiny on code complexity, security,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ntrolled LA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kinds of middle boxes (NAT, FW, prox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bility to configure lo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work with zero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raming and sec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an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system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alvestrand-rtcweb-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08:43:41Z</dcterms:created>
  <dc:creator>Harald Alvestrand</dc:creator>
  <dc:description/>
  <dc:language>en-US</dc:language>
  <cp:lastModifiedBy/>
  <cp:revision>1</cp:revision>
  <dc:subject/>
  <dc:title/>
</cp:coreProperties>
</file>