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09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67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09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8585a"/>
              </a:solidFill>
              <a:latin typeface="Ericsson Capital T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93840" y="564840"/>
            <a:ext cx="7826400" cy="22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58585a"/>
              </a:solidFill>
              <a:latin typeface="Ericsson Capital T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8585a"/>
              </a:solidFill>
              <a:latin typeface="Ericsson Capital T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09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67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09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3840" y="564840"/>
            <a:ext cx="7826400" cy="22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58585a"/>
              </a:solidFill>
              <a:latin typeface="Ericsson Capital T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Ericsson Capital TT"/>
              </a:rPr>
              <a:t>Click to edit the title text format</a:t>
            </a: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60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spcBef>
                <a:spcPts val="601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3" marL="1252440" indent="-180720">
              <a:spcBef>
                <a:spcPts val="601"/>
              </a:spcBef>
              <a:buClr>
                <a:srgbClr val="58585a"/>
              </a:buClr>
              <a:buFont typeface="Ericsson Capital T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" name="LeftInfo"/>
          <p:cNvSpPr/>
          <p:nvPr/>
        </p:nvSpPr>
        <p:spPr>
          <a:xfrm>
            <a:off x="-1706400" y="438120"/>
            <a:ext cx="1706400" cy="63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title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32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32 pt makes 2 rows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xt and bullet level 1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24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llets level 2-5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20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!"#$%&amp;'()*+,-./0123456789:;&lt;=&gt;?@ABCDEFGHIJKLMNOPQRSTUVWXYZ[\]^_`abcdefghijklmnopqrstuvwxyz{|}~¡¢£¤¥¦§¨©ª«¬®¯°±²³´¶·¸¹º»¼½ÀÁÂÃÄÅÆÇÈËÌÍÎÏÐÑÒÓÔÕÖ×ØÙÚÛÜÝÞßàáâãäåæçèéêëìíîïðñòóôõö÷øùúûüýþÿĀāĂăąĆćĊċČĎďĐđĒĖėĘęĚěĞğĠġĢģĪīĮįİıĶķĹĺĻļĽľŁłŃńŅņŇňŌŐőŒœŔŕŖŗŘřŚśŞşŠšŢţŤťŪūŮůŰűŲųŴŵŶŷŸŹźŻżŽžƒȘșˆˇ˘˙˚˛˜˝ẀẁẃẄẅỲỳ–—‘’‚“”„†‡•…‰‹›⁄€™−≤≥ﬁﬂ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ĀĀĂĂĄĄĆĆĊĊČČĎĎĐĐĒĒĖĖĘĘĚĚĞĞĠĠĢĢĪĪĮĮİĶĶĹĹĻĻĽĽŃŃŅŅŇŇŌŌŐŐŔŔŖŖŘŘŚŚŞŞŢŢŤŤŪŪŮŮŰŰŲŲŴŴŶŶŹŹŻŻȘș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ΆΈΉΊΌΎΏΐΑΒΓΕΖΗΘΙΚΛΜΝΞΟΠΡΣΤΥΦΧΨΪΫΆΈΉΊΰαβγδεζηθικλνξορςΣΤΥΦΧΨΩΪΫΌΎΏ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ЁЂЃЄЅІЇЈЉЊЋЌЎЏАБВГДЕЖЗИЙКЛМНОПРСТУФХЦЧШЩЪЫЬЭЮЯАБВГДЕЖЗИЙКЛМНОПРСТУФХЦЧШЩЪЫЬЭЮЯЁЂЃЄЅІЇЈЉЊЋЌЎЏѢѢѲѲѴѴҐҐәǽẀẁẂẃẄẅỲỳ№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not add objects or text in the footer area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" name="Line_SM"/>
          <p:cNvSpPr/>
          <p:nvPr/>
        </p:nvSpPr>
        <p:spPr>
          <a:xfrm>
            <a:off x="154080" y="1093680"/>
            <a:ext cx="8827920" cy="22320"/>
          </a:xfrm>
          <a:prstGeom prst="roundRect">
            <a:avLst>
              <a:gd name="adj" fmla="val 50000"/>
            </a:avLst>
          </a:prstGeom>
          <a:solidFill>
            <a:srgbClr val="585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sp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" name="Line"/>
          <p:cNvSpPr/>
          <p:nvPr/>
        </p:nvSpPr>
        <p:spPr>
          <a:xfrm flipH="1">
            <a:off x="-792360" y="0"/>
            <a:ext cx="595080" cy="1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5" name="Logo_SM" descr=""/>
          <p:cNvPicPr/>
          <p:nvPr/>
        </p:nvPicPr>
        <p:blipFill>
          <a:blip r:embed="rId2"/>
          <a:stretch/>
        </p:blipFill>
        <p:spPr>
          <a:xfrm>
            <a:off x="8456760" y="-17640"/>
            <a:ext cx="474480" cy="586080"/>
          </a:xfrm>
          <a:prstGeom prst="rect">
            <a:avLst/>
          </a:prstGeom>
          <a:ln w="0">
            <a:noFill/>
          </a:ln>
        </p:spPr>
      </p:pic>
      <p:sp>
        <p:nvSpPr>
          <p:cNvPr id="6" name="txtfooterCopy"/>
          <p:cNvSpPr/>
          <p:nvPr/>
        </p:nvSpPr>
        <p:spPr>
          <a:xfrm>
            <a:off x="395280" y="6524640"/>
            <a:ext cx="7399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7888a"/>
                </a:solidFill>
                <a:latin typeface="Arial"/>
              </a:rPr>
              <a:t>draft-holmberg-rtcweb-ucreqs  |  2011-03-27  |  Page </a:t>
            </a:r>
            <a:fld id="{AA36ABAA-6A87-4DA4-B069-5AF459DB0181}" type="slidenum">
              <a:rPr b="0" lang="en-US" sz="800" spc="-1" strike="noStrike">
                <a:solidFill>
                  <a:srgbClr val="87888a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6720" y="2097000"/>
            <a:ext cx="8352000" cy="1463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8585a"/>
                </a:solidFill>
                <a:latin typeface="Ericsson Capital TT"/>
              </a:rPr>
              <a:t>Click to edit the title text format</a:t>
            </a:r>
            <a:endParaRPr b="0" lang="en-US" sz="48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44" name="LeftInfo"/>
          <p:cNvSpPr/>
          <p:nvPr/>
        </p:nvSpPr>
        <p:spPr>
          <a:xfrm>
            <a:off x="-1514520" y="2540160"/>
            <a:ext cx="1476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title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48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subtitle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30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45" name="Logo_TM" descr=""/>
          <p:cNvPicPr/>
          <p:nvPr/>
        </p:nvPicPr>
        <p:blipFill>
          <a:blip r:embed="rId2"/>
          <a:stretch/>
        </p:blipFill>
        <p:spPr>
          <a:xfrm>
            <a:off x="4162320" y="-17640"/>
            <a:ext cx="803520" cy="9907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8585a"/>
                </a:solidFill>
                <a:latin typeface="Ericsson Capital TT"/>
              </a:rPr>
              <a:t>Click to edit the outline text format</a:t>
            </a:r>
            <a:endParaRPr b="0" lang="en-US" sz="3000" spc="-1" strike="noStrike">
              <a:solidFill>
                <a:srgbClr val="58585a"/>
              </a:solidFill>
              <a:latin typeface="Ericsson Capital TT"/>
            </a:endParaRPr>
          </a:p>
          <a:p>
            <a:pPr lvl="1" marL="3556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2" marL="712800" algn="ctr">
              <a:spcBef>
                <a:spcPts val="499"/>
              </a:spcBef>
              <a:buClr>
                <a:srgbClr val="92cce5"/>
              </a:buClr>
              <a:buFont typeface="Ericsson Capital TT"/>
              <a:buChar char="›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3" marL="1071720" algn="ctr">
              <a:spcBef>
                <a:spcPts val="499"/>
              </a:spcBef>
              <a:buClr>
                <a:srgbClr val="58585a"/>
              </a:buClr>
              <a:buFont typeface="Ericsson Capital TT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4" marL="1433520" algn="ctr">
              <a:spcBef>
                <a:spcPts val="499"/>
              </a:spcBef>
              <a:buClr>
                <a:srgbClr val="58585a"/>
              </a:buClr>
              <a:buFont typeface="Ericsson Capital TT"/>
              <a:buChar char="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5" marL="1433520">
              <a:spcBef>
                <a:spcPts val="499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6" marL="1433520">
              <a:spcBef>
                <a:spcPts val="499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3480" y="1031400"/>
            <a:ext cx="8351640" cy="36594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8585a"/>
                </a:solidFill>
                <a:latin typeface="Ericsson Capital TT"/>
              </a:rPr>
              <a:t>WEB REAL-TIME Communication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00a9d4"/>
                </a:solidFill>
                <a:latin typeface="Ericsson Capital TT"/>
              </a:rPr>
              <a:t>Use-cases &amp; Requirements</a:t>
            </a:r>
            <a:br>
              <a:rPr sz="3600"/>
            </a:br>
            <a:br>
              <a:rPr sz="3600"/>
            </a:br>
            <a:r>
              <a:rPr b="1" lang="en-US" sz="2400" spc="-1" strike="noStrike">
                <a:solidFill>
                  <a:srgbClr val="e32119"/>
                </a:solidFill>
                <a:latin typeface="Ericsson Capital TT"/>
              </a:rPr>
              <a:t>draft-holmberg-rtcweb-ucreqs</a:t>
            </a:r>
            <a:endParaRPr b="0" lang="en-US" sz="24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93840" y="5192280"/>
            <a:ext cx="8354880" cy="1251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Ericsson Capital TT"/>
              </a:rPr>
              <a:t>Christer Holmberg</a:t>
            </a:r>
            <a:endParaRPr b="0" lang="en-US" sz="2400" spc="-1" strike="noStrike">
              <a:solidFill>
                <a:srgbClr val="58585a"/>
              </a:solidFill>
              <a:latin typeface="Ericsson Capital TT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Ericsson Capital TT"/>
              </a:rPr>
              <a:t>Stefan Håkansson</a:t>
            </a:r>
            <a:endParaRPr b="0" lang="en-US" sz="2400" spc="-1" strike="noStrike">
              <a:solidFill>
                <a:srgbClr val="58585a"/>
              </a:solidFill>
              <a:latin typeface="Ericsson Capital TT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Ericsson Capital TT"/>
              </a:rPr>
              <a:t>Göran AP Eriksson</a:t>
            </a:r>
            <a:endParaRPr b="0" lang="en-US" sz="2400" spc="-1" strike="noStrike">
              <a:solidFill>
                <a:srgbClr val="58585a"/>
              </a:solidFill>
              <a:latin typeface="Ericsson Capital T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3840" y="624960"/>
            <a:ext cx="7826400" cy="4273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8585a"/>
                </a:solidFill>
                <a:latin typeface="Ericsson Capital TT"/>
              </a:rPr>
              <a:t>USE-CASE: </a:t>
            </a:r>
            <a:r>
              <a:rPr b="0" lang="en-US" sz="2800" spc="-1" strike="noStrike">
                <a:solidFill>
                  <a:srgbClr val="00a9d4"/>
                </a:solidFill>
                <a:latin typeface="Ericsson Capital TT"/>
              </a:rPr>
              <a:t>Telephony terminal</a:t>
            </a:r>
            <a:endParaRPr b="0" lang="en-US" sz="28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Mobile telephony operator allows customers to use web browser to access operator services.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Web user can place and receive calls in the same way as when using a normal mobile phone.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When call is received or placed, identity of remote user will be shown in the same manner as when a mobile phone used.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9d4"/>
                </a:solidFill>
                <a:latin typeface="Ericsson Capital TT"/>
              </a:rPr>
              <a:t>BROWSER REQS</a:t>
            </a:r>
            <a:r>
              <a:rPr b="0" lang="en-US" sz="3200" spc="-1" strike="noStrike">
                <a:solidFill>
                  <a:srgbClr val="58585a"/>
                </a:solidFill>
                <a:latin typeface="Ericsson Capital TT"/>
              </a:rPr>
              <a:t> IN A NUTSHELL</a:t>
            </a: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5560" y="1619280"/>
            <a:ext cx="835164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lnSpc>
                <a:spcPct val="90000"/>
              </a:lnSpc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ACCESS TO MEDIA INPUT DEVICES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90000"/>
              </a:lnSpc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Camera, microphone,…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MEDIA STREAM DETECTION, PROCESSING &amp; TRANSMITING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MEDIA STREAM QUALITY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90000"/>
              </a:lnSpc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Rate, jitter, packet loss, echo contro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AUDIO/VIDEO SYNCHRONIZATION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MIXING OF STREAMS FROM DIFFERENT SOURCES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CODECS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NAT/FW TRAVERSAL SUPPORT FOR MEDIA STREAMS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LEGACY INTEROPERABILITY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31640" y="54900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9d4"/>
                </a:solidFill>
                <a:latin typeface="Ericsson Capital TT"/>
              </a:rPr>
              <a:t>API REQS</a:t>
            </a:r>
            <a:r>
              <a:rPr b="0" lang="en-US" sz="3200" spc="-1" strike="noStrike">
                <a:solidFill>
                  <a:srgbClr val="58585a"/>
                </a:solidFill>
                <a:latin typeface="Ericsson Capital TT"/>
              </a:rPr>
              <a:t> IN a NUTSHELL</a:t>
            </a: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USE &amp; CONTROL BROWSER FUNCTIONS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tart/stop sending/receiving of media streams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Mute/pause media streams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tream layout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Media format (codec)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BROWSER EVENTS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tatus of media stream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Media streams no more received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QUERY BROWSER FUNCTIONS (input devices, stream capabilities, codecs…)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8585a"/>
                </a:solidFill>
                <a:latin typeface="Arial"/>
              </a:rPr>
              <a:t>THANK </a:t>
            </a:r>
            <a:r>
              <a:rPr b="0" lang="en-US" sz="4800" spc="-1" strike="noStrike">
                <a:solidFill>
                  <a:srgbClr val="f08a00"/>
                </a:solidFill>
                <a:latin typeface="Arial"/>
              </a:rPr>
              <a:t>YOU</a:t>
            </a:r>
            <a:r>
              <a:rPr b="0" lang="en-US" sz="4800" spc="-1" strike="noStrike">
                <a:solidFill>
                  <a:srgbClr val="58585a"/>
                </a:solidFill>
                <a:latin typeface="Arial"/>
              </a:rPr>
              <a:t> FOR LISTENING!</a:t>
            </a:r>
            <a:endParaRPr b="0" lang="en-US" sz="4800" spc="-1" strike="noStrike">
              <a:solidFill>
                <a:srgbClr val="58585a"/>
              </a:solidFill>
              <a:latin typeface="Arial"/>
            </a:endParaRPr>
          </a:p>
          <a:p>
            <a:pPr marL="176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8585a"/>
              </a:solidFill>
              <a:latin typeface="Arial"/>
            </a:endParaRPr>
          </a:p>
          <a:p>
            <a:pPr marL="176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CHRISTER.HOLMBERG@ERICSSON.COM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9d4"/>
                </a:solidFill>
                <a:latin typeface="Ericsson Capital TT"/>
              </a:rPr>
              <a:t>PURPOSE</a:t>
            </a:r>
            <a:r>
              <a:rPr b="0" lang="en-US" sz="3200" spc="-1" strike="noStrike">
                <a:solidFill>
                  <a:srgbClr val="58585a"/>
                </a:solidFill>
                <a:latin typeface="Ericsson Capital TT"/>
              </a:rPr>
              <a:t> of the draft</a:t>
            </a: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DEFINE </a:t>
            </a:r>
            <a:r>
              <a:rPr b="0" lang="en-US" sz="2400" spc="-1" strike="noStrike">
                <a:solidFill>
                  <a:srgbClr val="f08a00"/>
                </a:solidFill>
                <a:latin typeface="Arial"/>
              </a:rPr>
              <a:t>USE-CASES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DERIVE </a:t>
            </a:r>
            <a:r>
              <a:rPr b="0" lang="en-US" sz="2400" spc="-1" strike="noStrike">
                <a:solidFill>
                  <a:srgbClr val="f08a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, BASED ON THE USE-CASES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9d4"/>
                </a:solidFill>
                <a:latin typeface="Ericsson Capital TT"/>
              </a:rPr>
              <a:t>SCOPE</a:t>
            </a:r>
            <a:r>
              <a:rPr b="0" lang="en-US" sz="3200" spc="-1" strike="noStrike">
                <a:solidFill>
                  <a:srgbClr val="58585a"/>
                </a:solidFill>
                <a:latin typeface="Ericsson Capital TT"/>
              </a:rPr>
              <a:t> of the draft</a:t>
            </a: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CURRENT </a:t>
            </a:r>
            <a:r>
              <a:rPr b="0" lang="en-US" sz="2000" spc="-1" strike="noStrike">
                <a:solidFill>
                  <a:srgbClr val="f08a00"/>
                </a:solidFill>
                <a:latin typeface="Arial"/>
              </a:rPr>
              <a:t>FOCUS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90000"/>
              </a:lnSpc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Real-Time Media Streams requirements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90000"/>
              </a:lnSpc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Audio and video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90000"/>
              </a:lnSpc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Browser/web-app functional separation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lnSpc>
                <a:spcPct val="90000"/>
              </a:lnSpc>
              <a:spcBef>
                <a:spcPts val="451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Browser requirements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lnSpc>
                <a:spcPct val="90000"/>
              </a:lnSpc>
              <a:spcBef>
                <a:spcPts val="451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Browser/Web-app API requirements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CURRENTLY NOT COVERED: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90000"/>
              </a:lnSpc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Privacy requirements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90000"/>
              </a:lnSpc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Web server/browser signalling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90000"/>
              </a:lnSpc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Datagram traffic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9d4"/>
                </a:solidFill>
                <a:latin typeface="Ericsson Capital TT"/>
              </a:rPr>
              <a:t>scope</a:t>
            </a:r>
            <a:r>
              <a:rPr b="0" lang="en-US" sz="3200" spc="-1" strike="noStrike">
                <a:solidFill>
                  <a:srgbClr val="58585a"/>
                </a:solidFill>
                <a:latin typeface="Ericsson Capital TT"/>
              </a:rPr>
              <a:t> OF THE DRAFT</a:t>
            </a: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90" name=""/>
          <p:cNvSpPr/>
          <p:nvPr/>
        </p:nvSpPr>
        <p:spPr>
          <a:xfrm>
            <a:off x="341280" y="3608280"/>
            <a:ext cx="5086440" cy="2835360"/>
          </a:xfrm>
          <a:prstGeom prst="rect">
            <a:avLst/>
          </a:prstGeom>
          <a:solidFill>
            <a:srgbClr val="89b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41280" y="1449360"/>
            <a:ext cx="5086440" cy="1214640"/>
          </a:xfrm>
          <a:prstGeom prst="rect">
            <a:avLst/>
          </a:prstGeom>
          <a:solidFill>
            <a:srgbClr val="89b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97360" y="2664000"/>
            <a:ext cx="0" cy="944280"/>
          </a:xfrm>
          <a:prstGeom prst="line">
            <a:avLst/>
          </a:prstGeom>
          <a:ln w="3816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27720" y="5499000"/>
            <a:ext cx="1530360" cy="0"/>
          </a:xfrm>
          <a:prstGeom prst="line">
            <a:avLst/>
          </a:prstGeom>
          <a:ln w="5724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46800" bIns="-4680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958080" y="4869000"/>
            <a:ext cx="1888920" cy="1258920"/>
          </a:xfrm>
          <a:prstGeom prst="rect">
            <a:avLst/>
          </a:prstGeom>
          <a:solidFill>
            <a:srgbClr val="89b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NAT/FW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84840" y="5815080"/>
            <a:ext cx="210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WEB BROWSER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402360" y="2079720"/>
            <a:ext cx="183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WEB SERVER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1280" y="3608280"/>
            <a:ext cx="3960720" cy="1305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WEB APP (JS)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1280" y="4915080"/>
            <a:ext cx="3960720" cy="630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API/BROWSER API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332000" y="4824360"/>
            <a:ext cx="1755720" cy="900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67000" y="5589720"/>
            <a:ext cx="1755720" cy="900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047000" y="5049720"/>
            <a:ext cx="1755720" cy="90036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699640" y="2935440"/>
            <a:ext cx="3764160" cy="3682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SERVER/BROWSER SIGNALLING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920560" y="5499000"/>
            <a:ext cx="6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RTP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3840" y="198000"/>
            <a:ext cx="7826400" cy="854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8585a"/>
                </a:solidFill>
                <a:latin typeface="Ericsson Capital TT"/>
              </a:rPr>
              <a:t>USE-CASE: </a:t>
            </a:r>
            <a:r>
              <a:rPr b="0" lang="en-US" sz="2800" spc="-1" strike="noStrike">
                <a:solidFill>
                  <a:srgbClr val="00a9d4"/>
                </a:solidFill>
                <a:latin typeface="Ericsson Capital TT"/>
              </a:rPr>
              <a:t>Simple Video Communication Service</a:t>
            </a:r>
            <a:endParaRPr b="0" lang="en-US" sz="28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Users have loaded, and logged into, a video communication web application into their browsers, provided by the same service provider.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Web service publishes information about user login status, by pushing updates to the web application in the browsers.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By selecting an online peer user, a 1-1 video communication session between the browsers of the peers is initiated.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lf-view, remote video, display size, mute/pause.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3840" y="198000"/>
            <a:ext cx="7826400" cy="854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8585a"/>
                </a:solidFill>
                <a:latin typeface="Ericsson Capital TT"/>
              </a:rPr>
              <a:t>USE-CASE: </a:t>
            </a:r>
            <a:r>
              <a:rPr b="0" lang="en-US" sz="2800" spc="-1" strike="noStrike">
                <a:solidFill>
                  <a:srgbClr val="00a9d4"/>
                </a:solidFill>
                <a:latin typeface="Ericsson Capital TT"/>
              </a:rPr>
              <a:t>Multiparty video communication</a:t>
            </a:r>
            <a:endParaRPr b="0" lang="en-US" sz="28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imple video communication service (see previous slide) is extended by allowing multiparty sessions.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No central server.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Web application pans the audio from different participants differently when rendering the audio.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Users can change how the different participants are placed in the (virtual) room.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Each video stream received is by default displayed in a thumbnail frame within the browser,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3840" y="198000"/>
            <a:ext cx="7826400" cy="854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8585a"/>
                </a:solidFill>
                <a:latin typeface="Ericsson Capital TT"/>
              </a:rPr>
              <a:t>USE-CASE: </a:t>
            </a:r>
            <a:r>
              <a:rPr b="0" lang="en-US" sz="2800" spc="-1" strike="noStrike">
                <a:solidFill>
                  <a:srgbClr val="00a9d4"/>
                </a:solidFill>
                <a:latin typeface="Ericsson Capital TT"/>
              </a:rPr>
              <a:t>Multiparty on-line game with voice communication</a:t>
            </a:r>
            <a:endParaRPr b="0" lang="en-US" sz="28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Voice part of the multiparty video communication application is used in the context of an on-line game.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Received voice and audio media rendered together with game sound objects (possibly from different source than voice and audio).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3840" y="198000"/>
            <a:ext cx="7826400" cy="854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8585a"/>
                </a:solidFill>
                <a:latin typeface="Ericsson Capital TT"/>
              </a:rPr>
              <a:t>USE-CASE: </a:t>
            </a:r>
            <a:r>
              <a:rPr b="0" lang="en-US" sz="2800" spc="-1" strike="noStrike">
                <a:solidFill>
                  <a:srgbClr val="00a9d4"/>
                </a:solidFill>
                <a:latin typeface="Ericsson Capital TT"/>
              </a:rPr>
              <a:t>Video conferencing system with central server</a:t>
            </a:r>
            <a:endParaRPr b="0" lang="en-US" sz="28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 fontScale="99000"/>
          </a:bodyPr>
          <a:p>
            <a:pPr marL="174240" indent="-1742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ystem supporting establishment of multiparty video sessions using a central conference server.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4240" indent="-1742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Participants send an audio stream to central server.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4240" indent="-1742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Central server mixes the audio streams and sends towards participants a mixed stereo stream.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4240" indent="-1742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Participants send two video streams towards server, one low resolution and one high resolution, to be displayed in main window resp thumbnail.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4240" indent="-1742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erver selects what video streams to be forwarded as main- and thumbnail videos, based on speech activity.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4240" indent="-1742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Users can not can establish a Virtual Private Network (VPN) to access service, if not physically connected to the network where service is located.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3840" y="624960"/>
            <a:ext cx="7826400" cy="4273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8585a"/>
                </a:solidFill>
                <a:latin typeface="Ericsson Capital TT"/>
              </a:rPr>
              <a:t>USE-CASE: </a:t>
            </a:r>
            <a:r>
              <a:rPr b="0" lang="en-US" sz="2800" spc="-1" strike="noStrike">
                <a:solidFill>
                  <a:srgbClr val="00a9d4"/>
                </a:solidFill>
                <a:latin typeface="Ericsson Capital TT"/>
              </a:rPr>
              <a:t>Hockey game viewer</a:t>
            </a:r>
            <a:endParaRPr b="0" lang="en-US" sz="28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Ice-hockey club uses application that enables talent scouts to, in real-time, show and discuss games and players with the club manager.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Talent scouts use mobile phone with two cameras, one front-facing and one rear facing.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Club manager uses a desktop for viewing the game and discussing with the talent scout.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Desktop screen covered with video captured by front facing camera of mobile phone, with overlaid thumbnail with video captured by rear facing camera.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Mobile phone screen covered by a self view of the front facing camera, with overlaid thumbnail rear facing cameras view.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09:58:28Z</dcterms:created>
  <dc:creator/>
  <dc:description>Rev PA1</dc:description>
  <cp:keywords/>
  <dc:language>en-US</dc:language>
  <cp:lastModifiedBy>lmfchh</cp:lastModifiedBy>
  <dcterms:modified xsi:type="dcterms:W3CDTF">2011-06-08T11:23:19Z</dcterms:modified>
  <cp:revision>178</cp:revision>
  <dc:subject/>
  <dc:title>WEB REAL-TIME Communication  Use-cases &amp; Requirements  draft-holmberg-rtcweb-ucreq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edBy">
    <vt:lpwstr/>
  </property>
  <property fmtid="{D5CDD505-2E9C-101B-9397-08002B2CF9AE}" pid="3" name="Checked">
    <vt:lpwstr/>
  </property>
  <property fmtid="{D5CDD505-2E9C-101B-9397-08002B2CF9AE}" pid="4" name="Date">
    <vt:lpwstr>2011-06-08</vt:lpwstr>
  </property>
  <property fmtid="{D5CDD505-2E9C-101B-9397-08002B2CF9AE}" pid="5" name="DocName">
    <vt:lpwstr/>
  </property>
  <property fmtid="{D5CDD505-2E9C-101B-9397-08002B2CF9AE}" pid="6" name="DocNo">
    <vt:lpwstr/>
  </property>
  <property fmtid="{D5CDD505-2E9C-101B-9397-08002B2CF9AE}" pid="7" name="DocumentType">
    <vt:lpwstr>OHLogoNew2009</vt:lpwstr>
  </property>
  <property fmtid="{D5CDD505-2E9C-101B-9397-08002B2CF9AE}" pid="8" name="DocumentType2">
    <vt:lpwstr>OHLogoNew2009</vt:lpwstr>
  </property>
  <property fmtid="{D5CDD505-2E9C-101B-9397-08002B2CF9AE}" pid="9" name="EmbeddedFonts">
    <vt:bool>1</vt:bool>
  </property>
  <property fmtid="{D5CDD505-2E9C-101B-9397-08002B2CF9AE}" pid="10" name="FooterType">
    <vt:lpwstr>PresTemp</vt:lpwstr>
  </property>
  <property fmtid="{D5CDD505-2E9C-101B-9397-08002B2CF9AE}" pid="11" name="Keyword">
    <vt:lpwstr/>
  </property>
  <property fmtid="{D5CDD505-2E9C-101B-9397-08002B2CF9AE}" pid="12" name="LeftFooterField">
    <vt:lpwstr/>
  </property>
  <property fmtid="{D5CDD505-2E9C-101B-9397-08002B2CF9AE}" pid="13" name="MiddleFooterField">
    <vt:lpwstr>draft-holmberg-rtcweb-ucreqs</vt:lpwstr>
  </property>
  <property fmtid="{D5CDD505-2E9C-101B-9397-08002B2CF9AE}" pid="14" name="PackageNo">
    <vt:lpwstr>LXA 119 463</vt:lpwstr>
  </property>
  <property fmtid="{D5CDD505-2E9C-101B-9397-08002B2CF9AE}" pid="15" name="PackageVersion">
    <vt:lpwstr>R5A</vt:lpwstr>
  </property>
  <property fmtid="{D5CDD505-2E9C-101B-9397-08002B2CF9AE}" pid="16" name="Pages">
    <vt:bool>1</vt:bool>
  </property>
  <property fmtid="{D5CDD505-2E9C-101B-9397-08002B2CF9AE}" pid="17" name="Prepared">
    <vt:lpwstr/>
  </property>
  <property fmtid="{D5CDD505-2E9C-101B-9397-08002B2CF9AE}" pid="18" name="Reference">
    <vt:lpwstr/>
  </property>
  <property fmtid="{D5CDD505-2E9C-101B-9397-08002B2CF9AE}" pid="19" name="Revision">
    <vt:lpwstr>PA1</vt:lpwstr>
  </property>
  <property fmtid="{D5CDD505-2E9C-101B-9397-08002B2CF9AE}" pid="20" name="RightFooterField">
    <vt:lpwstr/>
  </property>
  <property fmtid="{D5CDD505-2E9C-101B-9397-08002B2CF9AE}" pid="21" name="RightFooterField2">
    <vt:lpwstr>2011-03-27</vt:lpwstr>
  </property>
  <property fmtid="{D5CDD505-2E9C-101B-9397-08002B2CF9AE}" pid="22" name="SecurityClass">
    <vt:lpwstr>Ericsson Internal</vt:lpwstr>
  </property>
  <property fmtid="{D5CDD505-2E9C-101B-9397-08002B2CF9AE}" pid="23" name="TemplateName">
    <vt:lpwstr>CXC 172 2019/3</vt:lpwstr>
  </property>
  <property fmtid="{D5CDD505-2E9C-101B-9397-08002B2CF9AE}" pid="24" name="TemplateName2">
    <vt:lpwstr>CXC 172 2019/3</vt:lpwstr>
  </property>
  <property fmtid="{D5CDD505-2E9C-101B-9397-08002B2CF9AE}" pid="25" name="TemplateVersion">
    <vt:lpwstr>R1A</vt:lpwstr>
  </property>
  <property fmtid="{D5CDD505-2E9C-101B-9397-08002B2CF9AE}" pid="26" name="TemplateVersion2">
    <vt:lpwstr>R1A</vt:lpwstr>
  </property>
  <property fmtid="{D5CDD505-2E9C-101B-9397-08002B2CF9AE}" pid="27" name="Title">
    <vt:lpwstr/>
  </property>
  <property fmtid="{D5CDD505-2E9C-101B-9397-08002B2CF9AE}" pid="28" name="TotalNumb">
    <vt:bool>0</vt:bool>
  </property>
  <property fmtid="{D5CDD505-2E9C-101B-9397-08002B2CF9AE}" pid="29" name="UsedFont">
    <vt:lpwstr>Ericsson Capital TT</vt:lpwstr>
  </property>
  <property fmtid="{D5CDD505-2E9C-101B-9397-08002B2CF9AE}" pid="30" name="White">
    <vt:bool>1</vt:bool>
  </property>
  <property fmtid="{D5CDD505-2E9C-101B-9397-08002B2CF9AE}" pid="31" name="chkMetaData">
    <vt:bool>0</vt:bool>
  </property>
  <property fmtid="{D5CDD505-2E9C-101B-9397-08002B2CF9AE}" pid="32" name="chkTaglines">
    <vt:bool>0</vt:bool>
  </property>
  <property fmtid="{D5CDD505-2E9C-101B-9397-08002B2CF9AE}" pid="33" name="optEnterText1">
    <vt:bool>0</vt:bool>
  </property>
  <property fmtid="{D5CDD505-2E9C-101B-9397-08002B2CF9AE}" pid="34" name="optEnterText2">
    <vt:bool>1</vt:bool>
  </property>
  <property fmtid="{D5CDD505-2E9C-101B-9397-08002B2CF9AE}" pid="35" name="optEnterText3">
    <vt:bool>0</vt:bool>
  </property>
  <property fmtid="{D5CDD505-2E9C-101B-9397-08002B2CF9AE}" pid="36" name="optEnterText4">
    <vt:bool>1</vt:bool>
  </property>
  <property fmtid="{D5CDD505-2E9C-101B-9397-08002B2CF9AE}" pid="37" name="optFooterCVLConfLabel">
    <vt:bool>0</vt:bool>
  </property>
  <property fmtid="{D5CDD505-2E9C-101B-9397-08002B2CF9AE}" pid="38" name="optFooterCVLCopyright">
    <vt:bool>0</vt:bool>
  </property>
  <property fmtid="{D5CDD505-2E9C-101B-9397-08002B2CF9AE}" pid="39" name="optFooterCVLDate">
    <vt:bool>0</vt:bool>
  </property>
  <property fmtid="{D5CDD505-2E9C-101B-9397-08002B2CF9AE}" pid="40" name="optFooterCVLDocNo">
    <vt:bool>1</vt:bool>
  </property>
  <property fmtid="{D5CDD505-2E9C-101B-9397-08002B2CF9AE}" pid="41" name="optFooterCVLPrep">
    <vt:bool>0</vt:bool>
  </property>
  <property fmtid="{D5CDD505-2E9C-101B-9397-08002B2CF9AE}" pid="42" name="optFooterCVLTitle">
    <vt:bool>1</vt:bool>
  </property>
  <property fmtid="{D5CDD505-2E9C-101B-9397-08002B2CF9AE}" pid="43" name="optUseConfClass">
    <vt:bool>1</vt:bool>
  </property>
  <property fmtid="{D5CDD505-2E9C-101B-9397-08002B2CF9AE}" pid="44" name="optUseConfLabel">
    <vt:bool>0</vt:bool>
  </property>
  <property fmtid="{D5CDD505-2E9C-101B-9397-08002B2CF9AE}" pid="45" name="txtConfLabel">
    <vt:lpwstr>Ericsson Internal</vt:lpwstr>
  </property>
  <property fmtid="{D5CDD505-2E9C-101B-9397-08002B2CF9AE}" pid="46" name="x">
    <vt:lpwstr>1</vt:lpwstr>
  </property>
</Properties>
</file>