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DE65-C43F-4CD2-B583-48E8F0914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2500-ACD1-46E8-A82B-50682940D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14B9-77D1-4C3C-BB3A-A01ED1F42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17EF-6377-43FE-A751-DBBD7E19D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391A-12CE-404B-91F9-2193AF203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145F-6943-43D0-967F-E53E565C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F55-55C6-466F-9826-3DF088A9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C07C-68E8-4622-AB90-6A311E3D8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8305-ABFE-4966-B59C-397B70BC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6666-ECD4-4C22-B72A-62AE7EBA7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1AF25-DB32-4B8C-866A-3D187C24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70E0-071F-4CE1-AACA-DB77AF5BF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ptember 23,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SS WG Inter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511C-DFF0-4CB3-9384-990DACD76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8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9920E-95D4-4E2C-BC77-761A37CF48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TCWEB Media Privacy </a:t>
            </a:r>
            <a:br>
              <a:rPr sz="32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ft-johnston-rtcweb-media-privacy-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n Johnston &lt;alan.b.johnston@gmail.com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Zimmermann &lt;prz@mit.edu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1190520" y="6132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1914480" y="606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CWEB WG Virtual Inter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Media Privacy Importa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WEB signaling may not be standard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WEB media will be transported using R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WEB media security provided by SR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a privacy is all about key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browsers need SRTP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me cases, web servers need SRTP ke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providing media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RTCWEB browser users have any expectations of media privac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o, we must choose key management car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4A447-DEE7-4F6D-ABF4-F09E17881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8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CWEB WG Virtual Inter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 Privacy Approach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RTP keys shared with web server over signaling 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ent over encrypted channel, provides privacy against some attackers, but key is known to web server and anything that logs web traf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TLS-SR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TLS handshake in media path generates SRTP ke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of handshake done via PKI or exchange of key fingerprint over an integrity protected signaling 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grity protected signaling channels not available for SIP, and RTCWEB may not even standardize sign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R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s Diffie-Hellman key agreement in media path to generate SRTP keys, no reliance on signaling chann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entication done using key continuity with the opportunity for users to compare Short Authentication Str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2DCF8-6E8C-4722-8D22-63CDCC2811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8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CWEB WG Virtual Inter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G interest in further investigation of media privacy for RTC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F7E0-874C-48E9-9373-84B122B45E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ne 8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ooter Placeholder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CWEB WG Virtual Inter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7T16:55:18Z</dcterms:created>
  <dc:creator>Alan Johnston</dc:creator>
  <dc:description/>
  <dc:language>en-US</dc:language>
  <cp:lastModifiedBy>Alan Johnston</cp:lastModifiedBy>
  <dcterms:modified xsi:type="dcterms:W3CDTF">2011-06-08T13:37:11Z</dcterms:modified>
  <cp:revision>77</cp:revision>
  <dc:subject/>
  <dc:title>Best Effort SRTP</dc:title>
</cp:coreProperties>
</file>