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2924-098F-475D-BEB6-32018AA4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E2F-5FD4-4DBF-82E3-C03CB054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D392-BAE6-4ED3-B661-24B4C9B44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271-78FC-4E44-8E26-1B4F2E7AC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1F16-2089-43D6-B12E-6E9957339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B5E-6EA4-43D7-81F2-A3D56C7FF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2B9-5D8F-4C0E-8491-273DF1DD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E86-D8A3-4BAA-A97A-BDDE0727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6789-4616-45C9-861F-1534091EE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0A32-CE0B-4B3E-99F2-4C92D286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DA1-BD53-4EF1-AE7C-ED9C34FF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1D57-FF75-4F52-B253-E92B7563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24F951-434E-43F5-A40A-A7FE5C1F7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3280" y="345960"/>
            <a:ext cx="9070920" cy="63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WEB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ald Alvestr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P (obvio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 for establishing desire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if possible, with TURN relay fa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DP if possible, with TCP fall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ther all of ICE is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ft-kaufman-rtcweb-traver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gestion control strategies (TFRC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r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7000"/>
          </a:bodyPr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for media, using RTP/SAVPF pro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P multiplexing, symmetric RTP/R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cbran-rtcweb-protoco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perkins-rtcweb-rtp-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P multiplexing – session-per-media-strea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-313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ming of non-media data - UDP/DCCP/DT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186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form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I Codec s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US (may be uncontroversi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least one low-quality “phone” audio cod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vers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 codec status (do not discuss n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ephone events (important use case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s for non-media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r requirement to negotiat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acy has SDP as “lingua franca of description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P has lots of legacy with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dominant accepted management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SIP installed base – limited interoper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PP has separate foll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use cases may be better off on 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teway solutions better on browser footpr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and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control over his own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streams lo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nteract with stream control, but mostly a local matter – may be better addressed in W3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system support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ho cance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gain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mera zoom/pan/t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pects are inter-user and may need standardization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s are matters of “good citizenship” (“mute when not speaking in large meetings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now, leave it for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the environmen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lots of things that are obv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of these hav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a few known controvers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figure out if one alternative has “rough consensus” and move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5500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rough consensus – what do we need to te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7320" indent="-3204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find more controversies over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73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ugh consensus and running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WEB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l Time Communication in the Brows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to Browser is Job Number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ble by JS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(just) for apps we have already deploy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hood and Apple P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59000" y="561960"/>
            <a:ext cx="7785000" cy="58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2920" y="1768320"/>
            <a:ext cx="9070920" cy="4989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8381880" cy="628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 is not a green f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protocols defi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ts of stuff deploy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ri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tandard protocols in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op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5960" y="422280"/>
            <a:ext cx="8070840" cy="605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27040" y="1768320"/>
            <a:ext cx="6858000" cy="51436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914400" y="403200"/>
            <a:ext cx="86076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TC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owser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ew, massively deployed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utiny on code complexity, security,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ontrolled LAN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kinds of middle boxes (NAT, FW, prox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ability to configure local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work with zero configu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lay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raming and sec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 and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system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alvestrand-rtcweb-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8T08:43:41Z</dcterms:created>
  <dc:creator>Harald Alvestrand</dc:creator>
  <dc:description/>
  <dc:language>en-US</dc:language>
  <cp:lastModifiedBy/>
  <cp:revision>1</cp:revision>
  <dc:subject/>
  <dc:title/>
</cp:coreProperties>
</file>